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E13-EC62-42E3-B5B5-0E110EDB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1E1-2ACA-4165-91D4-77354F44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B07-00AF-4858-AF99-0771144D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836-9B71-41AA-822B-52C01D35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46B-8502-42D4-A2B9-19568D66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BBF-5BB3-47AB-A813-DEFC9D6F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15D-3AF7-4BFE-9EF5-682ABB88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965-E142-4813-AC8B-6959EDEE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B07-2D60-4766-835A-E9BF82D3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7DF-4030-426A-B283-EAD15176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5AA-FBB4-4714-9537-790460D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868-352A-4DEF-BD7A-2D92289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E26D-4342-4566-8622-F25235BC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000" y="504720"/>
            <a:ext cx="1008000" cy="5212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ff"/>
                </a:solidFill>
                <a:latin typeface="Comic Sans MS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470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44:49Z</dcterms:created>
  <dc:creator>moumou</dc:creator>
  <dc:description/>
  <dc:language>en-US</dc:language>
  <cp:lastModifiedBy>moumou</cp:lastModifiedBy>
  <dcterms:modified xsi:type="dcterms:W3CDTF">2007-11-28T13:24:07Z</dcterms:modified>
  <cp:revision>4</cp:revision>
  <dc:subject/>
  <dc:title>Diapositive 1</dc:title>
</cp:coreProperties>
</file>