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B80-4A5A-4CFA-9DED-0924933E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701-11B3-4DD1-A3C5-F839F8BD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4A38-A5C1-4995-A816-2ED351D8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7568-FBFE-480E-8F85-5948FC4B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CC29-8B8A-4F0D-8AA0-DB12DFC6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947F-42C0-4899-9C3D-8EBF7022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ECF-36A1-4543-8F83-E681ABB8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33A-3099-478C-8BBB-AA140A7E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5C4-DA0D-4C36-816F-B18302B4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E8F0-E10D-4497-A2EE-11E58DA0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7A9-09A9-44FD-A0CC-62930D91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D71-B1EE-417C-B296-B01B74EC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F220-3880-4826-818C-7DC2D8702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64000" y="504720"/>
            <a:ext cx="1008000" cy="5212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Comic Sans MS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ff"/>
                </a:solidFill>
                <a:latin typeface="Comic Sans MS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66ff"/>
                </a:solidFill>
                <a:latin typeface="Comic Sans MS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24703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1:44:49Z</dcterms:created>
  <dc:creator>moumou</dc:creator>
  <dc:description/>
  <dc:language>en-US</dc:language>
  <cp:lastModifiedBy>moumou</cp:lastModifiedBy>
  <dcterms:modified xsi:type="dcterms:W3CDTF">2007-11-28T13:24:07Z</dcterms:modified>
  <cp:revision>4</cp:revision>
  <dc:subject/>
  <dc:title>Diapositive 1</dc:title>
</cp:coreProperties>
</file>